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C58-72A6-43A8-8F50-B5FB18D9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CB3-1E42-4264-8BE8-DBDE6A33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F063A-BF67-4FB8-9B36-C01DCCD2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F834D-8B99-41DA-B38F-CA55145F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EE1B5-4797-4F92-A897-2192EC91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E1FB1-B99A-4808-A139-EBDEADB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BC3BA-42AD-4E75-8572-7CC0FC7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C67B6-A375-4ABA-AD51-D734389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5C11C-6F1F-41B9-8D9C-61FFB216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6436B-5088-4238-BED6-80B867CD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4C455-99CD-46F3-BDDE-17AB7076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81656-3AEB-4518-B997-8450E74F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06A-06F1-488B-BDBF-454578A5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C839D-8F5A-4B50-B13F-D01991A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4EE20-A0AB-4600-812F-8EE06235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9B0B9-7F41-4C1D-A818-DDBB09DD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8B154-B0DF-4CDD-AC4A-E38B4E54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6ABAD-DEDA-4A5A-971B-1F56B67F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9AFEA-3614-40C7-99B9-15DFF7D4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6173E-07A7-4449-B43E-2B0242B0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596E3-BC4D-471B-98DB-1A929CC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AE2D4-DC9B-463F-A2DB-EDFE21AF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90508-E6F5-41F0-B52E-7C8D6033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9E3-B1E2-4E8C-8AC9-3F818224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68E2C-84AF-478B-ADE0-C4627604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DCBAF-ED55-45C7-820C-36D51589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90E0A-6485-4680-8F4B-98703158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DC0A0-8AB3-49D4-A8EB-917A1BD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BB15A-B8DE-461E-9D5E-47B9C5F5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43428-C41A-4014-9005-4A2F7BD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CF430-802B-4751-87EB-EECF5399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C698A-2ED1-4F26-9E20-DBFD95C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DE9EA-C3A0-4982-BFEF-2CFE304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DB40E-E101-4972-AB7E-EF5DB3A3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B9BF-BC59-43DD-9354-1FFE8AD1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D8933-7E5B-4D0E-8B43-DF869B67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CA03A-EF6F-4DBE-974D-815C67AF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2B26B-58D1-4DC7-A711-FD4F8791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295BA-B096-4286-81E9-E27D2EE9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681B5-B0E1-4919-A345-D053A75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CD279-9546-4E5E-9D79-F67D7F2E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7074C-1F1D-4D26-B7E3-89B9FCF1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652CB-BB6F-4609-8BB2-B2BAB384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951C4-C0E6-48EC-A07A-286BB9EA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E8ECB-9AB1-4386-BDB2-B6DE5FE6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5374-00F1-42B5-A388-9B581707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3CCC5-6D28-4E0C-8FD4-0CA78A6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B34B5-633E-47E4-AA86-2C6B6487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AC4DD-61CA-4990-A855-24EA9C31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64836-A358-49B6-AD7F-01902F48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D96C2-B16F-4A19-AAF8-E2E6D22F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C37DB-4DDF-468C-9A6B-DC365B84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F0224-7100-4BDD-8460-70E505B1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2DF68-58AB-4293-9759-4511BDE4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7EB30-F955-4728-8CC6-3D292639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A36FB-6A4A-4905-97EE-CDBB1CCB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62CA-F0C5-4EDE-ADBE-CFF31AC0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04775-7838-4C51-9964-F5BE5164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415EF-3077-4CD1-9B34-AEB45F2E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7F6B0-4BB7-467A-968A-AD9193BC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71BC5-ED78-4FC9-81A1-ABAB3113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85996-1847-47E4-810C-EF4376BD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C2E00-F94B-4E98-81CF-377F80FF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7B902-9C84-43AA-B9C8-106F78B1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2A85D-F311-4E1E-A09F-DF5F7B12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1750F-1A4F-4DA7-8947-D065FDA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35F7D-51BF-47A8-A2AA-B64E7E5A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00E8-4D5F-48EF-838A-435BED8D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B4D0B-5575-42AE-9787-C062DF24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DD231-A64B-400E-B56D-3FC30114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AC947-1D10-44C9-81F1-EA4916B5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FB55D-E1D6-4891-90FA-FFD4149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DCB87-EF9A-4CD3-9966-FBBF19D0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C01D1-4521-4514-80D8-55A2428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7A16B-D62B-4466-970E-3D0C380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73DF2-2597-4F61-96AD-06CF4A5D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828F0-1613-4680-B0AA-F110EF1C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FAE7E-9F89-4BDC-B4BF-688177E9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7179-7B62-4293-B6FA-B8FAB2C9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A5811-061F-4F51-AE46-2E0303C5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DF910-E422-4D88-BD28-88D3C701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16A0D-C4C4-4C82-8330-62D6F0B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41087-8463-4DA0-A023-54A3CCC1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5B32D-3DF6-431E-A98C-6B1EAC73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70FE7-6E51-403D-AF21-03CC5E4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98125-23A6-411C-A23C-2BC0F404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919D1-5AD9-4C8B-8108-D0F125E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66F7A-25C2-4583-9C17-59CD50F7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32369-2613-491E-B38A-25310658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BE4C-2D12-4C79-95FF-1D10C278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40A6D-3B5D-49F3-ACE9-A06D8A07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7AFC5-529D-46D8-B234-0D7B10A5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0D372-9148-4D85-B26A-56478789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53DB5-02A8-4CEB-95E9-B6659725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D9B8A-4D2C-4D4F-A8BD-349569A8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9E18C-9BFB-4ACF-A50E-335A6CD1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49476-75F0-4E98-BB28-AD3F18D3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24536-B6C3-4CC1-872C-7F852572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D4BBE-4C2D-4F5D-9854-B7EF541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B42F1-887F-4C92-9951-B0191A95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9471-D572-4F5D-9E3F-9A30597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BF70F-F670-4999-8A9B-312A6FB2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F477F-6791-4AB5-9F19-BDF2B623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20544-E63C-447A-8A9B-3D081338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E5EEE-5374-4797-93B1-663F4C1C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FF38D-5288-408A-A167-185C633C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0F71B-4D96-4BF4-9094-917BC0DC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CE0A4-28AD-4DA0-A5F2-1221B913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974C5-D9DA-4585-A5FE-A500E08E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B8A6D-0098-47CD-996A-11EEBE45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05F47-EB08-4783-BD4D-48413E4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BB3-1054-4492-BA9F-C3B0CDDE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120-9736-4F5A-8287-65448A3F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9C610-6B6A-497A-ADD5-5CC113B4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D6AAC-1D6C-464C-B806-5A5108F9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71962-D353-4133-9902-B0985570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6815D-F617-44C1-BA11-0B8E8502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5B12C-8683-4B73-B248-EFDCD75E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5DDD8-4DC5-4075-892E-CECF52B5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9F160-9E0D-44AE-9A6C-1133441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FCA10-F2FB-40E8-9849-DCE4209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F1198-9A2E-48B3-BCD9-03B227B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77663-4D2A-461E-9409-9FBD30EB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B6B7-6763-45F3-8C4F-372D2671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FDE03-0254-483C-BF5D-54CEB4A7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E0EAF-9AE1-4FF2-B671-56D86F3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10303-71A6-4C9A-A5B9-804AB20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8D15A-6389-4FAD-A35A-DEAB252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5A789-0559-4301-95A1-1EDEA943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CB65C-0DAA-4EC2-B7A4-A55FAE6F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3CC0F-473C-44EC-8F09-E368DC90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324FF-E9C7-46DB-92F9-9FA6325E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E0960-34C0-463B-BA73-EF8CFDFC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32A97-E2B5-4072-88E5-829212E9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079C-DF95-4A74-BD7B-391D768C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721C4-44DB-45B7-B1E9-E989E963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F1768-CF49-455E-A656-959F1FBA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63A42-3CDC-4C96-8974-EC9A16B6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EFA5A-CE60-4ED1-B030-331EB93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A2DE18-3B8C-4D0B-9936-D2B0123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06855-2D60-4EC3-9891-3E036D32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4885C-CDA9-4240-9054-3AED998E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0F6E7-2FFF-4A86-917A-AB244690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FCDF0-B802-4386-813F-56A0079E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32869-932B-418E-B2EE-6625EB9F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5086-FDA6-44B1-A7A4-149B8882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367E50-2F01-4134-9D2D-095B5D5B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C0FAA-19E3-4665-94D3-FFEFD938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FDD5F-7B27-4AB2-A1BE-C0ABEC6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A01CA-5AED-4FA3-80F3-8E499775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F2EDF-AE3E-489F-9E1A-61BCF767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00646-713B-4B39-A00D-EEA73BD2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B29B0-1AE2-4B4F-BDC9-1692F52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82CA1-88ED-4CDE-B552-9366AC4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F469B-FBF9-4E95-A346-50399E00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0B66A-480C-440D-B70C-F3F5FCEE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AEC7-AED4-41B9-8285-9B96DFC0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B08744-6C59-4DBC-B277-73826446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F2FF09-6606-4C28-B33C-6D0028F9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D3AF6-E575-4118-ACC7-1C5E2FE1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FB279-76CC-4774-832E-3D500C52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FD76D-41A6-4118-B235-3F29E3E8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0E8C2-7651-4568-9020-66AB90B0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282A7-04BB-4398-82DB-DCDE0F33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1904E-B137-45AE-A27E-1CE2E86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7BA15-6943-443C-9F41-EEC53DA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ACF27-C073-49EF-BE55-8E07F6E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627E7-AEE7-4DB2-A88D-A1975FBC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3762D-9CCE-4824-BE79-AF1A97A7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607459-0DA8-4F3E-8BDD-7EED5C43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AE8841-9497-4ECE-B8EE-672D901D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DDB0F5-2524-49F8-8826-F41F88EA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6508FE-81D5-4B9F-A64C-EE1B70F4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9795FB-443E-4873-9A69-9AC0A787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914511-4DF2-43EF-8AFB-8E660B17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8D7A46-D9E6-491E-A253-6CEED1C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799B49-FAD7-4FF3-8DA7-AA21B6F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83A97F-3491-4C23-A249-D5328A5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52E0-E804-4178-9568-1E8845A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B37216-BC8F-423A-ABAC-F541CA75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EE470F-CCFA-43DB-BA0A-0892C6A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B0829D-4BB9-4EFB-AE88-AFEE883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1AE755-B970-4CF3-9F63-71A6BF76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65693B-015A-494C-A753-5D8F6103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473E42-BB26-41D3-A5F1-F0D06D6F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CC2C35-87E3-4192-B0F9-625628CF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B7B27-E461-4658-A35B-15E05DDF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64BEE-3E7E-4288-98ED-0CC23BB1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AFA3D2-9FF7-4800-B783-03E3646A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5606-C540-49BE-A8BC-0A0F4BB2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7F5BE-E270-44FD-B268-5E822EBD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717D2E-BD51-41AC-B4F9-6BF02B3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73E8B7-1205-42CF-BCAE-07EE5837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91F649-9F7D-4212-BAEB-F49B3E57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1E8E1D-9834-420B-B064-D4C985A1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733273-441E-48E2-A6D4-74E8A98B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213CC9-12BE-4023-AF34-85DB99F1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2FC9-699F-4BDC-B59D-342EBC08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CAF6-8350-41DF-BAA2-B9851E9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F67-3102-4950-A4A5-C7D55D1B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BA0F2-9A32-4243-A76E-190A529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5484-1136-4427-8661-2D1B211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FDD1-5AF1-47EE-9C52-F2560227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3F93-2656-43D6-BDEC-2622367F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82E1-6BFC-49BE-8ACE-95D84401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3628-8039-40BC-85A6-56BBE5B5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24A5-6AFC-40CF-8893-8A47B283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1AB8-BE0F-4974-940B-8EECD1DC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AD3E-31FB-4757-94B6-9DDC437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4A18-A13F-4F4E-8EBD-FDB6BA7C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252-E642-4502-9C09-95DB0AE7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0785-133E-40A6-B02E-4A3087E9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FE61-2F17-43BD-829A-4D517468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F4DE9-597C-47EE-9F5D-F9A4419B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C6A54-6498-4FB0-A0A7-F17EF18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2AA9-C786-49DD-8834-6EF26766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87D4-BA47-42E9-A25E-B9A98957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7FC2-3B13-4BFF-9CC5-37C14B16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33F6-1E3A-45FB-8343-6C8B10C5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0A40-2852-4470-970A-C4A34B3F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B96E2-63B0-4E06-8C52-13920B6D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823-1692-45B5-BCDF-4A5B775A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8162-12EC-4868-9A60-18D127CD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4818-D015-4D9A-B2DA-6C7D0158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9E67-C658-4D53-8ED3-0A3830D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4420D-F070-4B4B-88F2-732E4A61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447D-181B-4D9D-BA6B-380393AF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BD4B-3F0A-44AE-9DDF-EFDF160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AED3-B685-41C9-B88B-E4AD3C59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E9A48-A53E-4A64-9F3E-80AE67E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60C34-209F-4B80-920B-965BEBCC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1114-DFF8-4810-BC38-BF07A504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40B-CA99-429B-9838-90FCD5DC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34FF-69B0-45F3-B815-70BFAC94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9244-A5F9-4348-90E3-7AAB0794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C077-3B4B-49E3-8030-DD3EC862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6F350-35D6-48F2-94B2-68125D66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10A2-0A6E-4CED-92D2-B8E58E17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9E75-1888-4D66-AF2C-945D5D3D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5A96-A090-4288-ADB5-7C18D45A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5A550-5041-489B-B326-7E4F429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1E8AF-8B61-42CD-9B9C-7B54D736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9F1A-CC18-4B8C-87B7-EBC7E83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529-B7CE-4CDB-AF1F-1D37818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16464-6283-448F-9E35-C3F34492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3C91-EA23-4B8A-9EA8-C7329F39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38F2A-F9EF-4D32-8F4F-02428F2D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FA836-9A0D-416D-8610-0A00904B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00FD-4F39-4F2B-9C17-63DEA772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B8C24-D04A-4A4D-9C41-25593CA6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AE135-64F4-4BE7-BAEF-6E7BBCA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8D6E-33A9-4456-BB3B-0E547E08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2FB3F-0898-4F1E-9AAB-A1E20793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EE37-3D8E-4C59-BEBA-7227E806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7FD-5432-43B3-BD26-7F2A0AB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8B5B-27CE-4A9F-82CD-D90A8B6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08DB-9D3C-4D38-A91F-8C01C34A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2E63E-0A4A-4F6F-A2A7-8C25FF71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EC03-F0D7-4033-994D-FE2FF622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0BAD-AEBA-41C0-A3EF-881B5FC8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14E2E-4434-488B-9239-9E614F63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5F965-E887-45C4-A0EE-B30513DD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248A-9CF0-46BA-8D0D-A49629F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A2932-901B-43CB-AFEE-9A803363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11833-6D1E-4E58-9D52-91BB7E58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64E-AADF-4669-8359-51B59933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CB572-9384-49AE-A0E8-B2000664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F3DD9-ADE0-4708-AC63-88282661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44701-0DCD-4E9B-96B2-A9209E2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01137-E05C-4B26-A6F8-9572E460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0705-266B-461F-B215-EE85A227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8D0B2-BA09-44A7-8BD5-B40E097C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6CEAC-F2A4-4CC1-A596-2D9E66F0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BC8E0-9A77-49D2-9483-05F2ECDA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D978C-D1BE-4683-BC2A-7A89F066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4EEFB-DF55-4428-93FB-F35E226F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6E0A-C295-4420-B103-40B93EB9FB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8593-DC5A-48E1-88D7-0E177FEF2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AE14-0A8B-4363-B777-FCC85A1221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74B5-4433-40BF-8167-43B5C0123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340E-4D89-474D-A172-325E70E5A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038F-0285-4CED-96CF-E363B40AE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26AE-F294-4161-8728-D114592691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7FA-C6F6-4921-982D-3F638E731A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72F2-D31F-407D-894B-42449D099C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4E5A-46D3-4A04-9D4D-FBD7CD7D5F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5155-AFEB-4A77-A658-FE0675C5B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C56-9A31-4EC9-98B0-362EB7413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28E8-700E-4AC0-BF07-8B169A242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7DB0-4D43-4E11-8793-FCC2518FC9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985F-8D3D-43B0-ADBE-FCC3A4D60A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F73E-8386-4E41-B47C-0D170711C0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1926-3349-4FDB-8EED-8D0D42716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379F-C508-4891-AB3A-954BE3D55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59C6-A550-4388-94D3-367B9E3AD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056A-029F-495C-AED9-87E9945373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6BCE-6C85-4E08-B105-2BA6969B55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B32F-7654-40F8-859B-CD4765A787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2ACB-A031-4701-A874-C95BCB3800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F6D0-A5B5-474B-98DF-92649A98C2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7B0B-1290-4E3F-977F-BABC2E382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56A8-1DA8-47F3-8568-1C483CAB73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16D1-F831-45B7-B5C7-1858F0F81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3CEF-DDDB-48E0-8055-91E90BE3EE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9614-CAEF-4416-848A-318F46C3B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2B4D-AD48-4AF5-A4FC-D349DD291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1B80-CB3B-4535-B1B1-B8F90F644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67A-261F-4F99-B9E9-762421070A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C23F-7004-4FDA-B2AE-FE02CE86F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5E7-4B80-45AC-A8EF-1902C03FC0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023F-5FF6-4CF0-B6DF-0F77ED97D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40D6-05AD-4D33-BCEB-8F5A38AF04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D9C0-1961-49FE-9169-419C3D311D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9AF2-1646-4ECC-AC41-E316864D24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6127-F9BC-4A5A-BDEC-D59146A9A4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747-80FD-439E-B0DC-CDABD8A86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6D96-29B1-4A37-BCD7-69A26B3864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028E-E6EF-423A-8950-8F8229B21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5920" y="2952720"/>
            <a:ext cx="86007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1038240"/>
            <a:ext cx="87436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576360" y="971640"/>
            <a:ext cx="7991280" cy="54766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730872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5580000" y="1498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536400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730872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7596360" y="28814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1619280" y="52862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8"/>
          <a:stretch/>
        </p:blipFill>
        <p:spPr>
          <a:xfrm>
            <a:off x="1619280" y="5791320"/>
            <a:ext cx="5763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19240" y="673200"/>
            <a:ext cx="8705520" cy="60577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332000" y="53737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332000" y="60930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8197" descr=""/>
          <p:cNvPicPr/>
          <p:nvPr/>
        </p:nvPicPr>
        <p:blipFill>
          <a:blip r:embed="rId5"/>
          <a:stretch/>
        </p:blipFill>
        <p:spPr>
          <a:xfrm>
            <a:off x="1547640" y="230040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914400" y="942840"/>
            <a:ext cx="7315200" cy="4972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547640" y="3557520"/>
            <a:ext cx="640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640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403280" y="4941720"/>
            <a:ext cx="640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81080" y="895320"/>
            <a:ext cx="8781840" cy="5067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3268800"/>
            <a:ext cx="4249800" cy="1168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755640" y="4595760"/>
            <a:ext cx="424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06200" y="819000"/>
            <a:ext cx="8772840" cy="5905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68360" y="5935680"/>
            <a:ext cx="741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8581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490680" y="1400040"/>
            <a:ext cx="8162640" cy="4057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532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468360" y="280980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539640" y="4221000"/>
            <a:ext cx="7920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8:4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